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D46E-CDCE-4C8D-B5E7-FC86184F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450BA-B1A3-4EA9-8D5B-3EEB0569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6A1F-77F6-469C-B71A-450010B7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0CEB2-CDA8-44E2-BB19-B22B0368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AF69-2A44-41EF-A8E3-6D1847BC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0A97-9623-4738-B9A1-2D979269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BA3D-1061-4D81-B627-B2C1A909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A504-6B9F-4BC3-B06C-C4A35B77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E2D4-2301-4A9D-8A8C-5A874AF7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43AF-9CE6-4DEF-9DB2-0BF76B42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C36D-5BB7-48C4-9984-021B6050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6861-BA0B-4594-B9CB-96BB7CB1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C69F-9C71-4521-A80B-348ABB02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E2B3-77DB-4D6F-B5FD-DB32FF61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8B94-D347-4E5E-9D77-AAE009AC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BE58-9C53-41C2-9A8F-FC476991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9B24-55C2-466F-A0D3-A9B74FD8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9F09E-7360-4EC2-AE66-0764DC13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95EB4-9058-4491-B0BC-685E03F1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DD77C-BB00-4AA7-BBCB-32CA4381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26C93-B8B3-4598-A56F-4BB0C26C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61BCB-67E4-4C37-BD38-E350D937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E7799-3FB9-465B-9C7A-75D11D55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AEC3D-1545-486A-810B-5752B802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0685-2FEE-44AC-BF05-126E4E3F2D2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549A-2891-4121-B131-33E95D75079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968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Приятел небес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е мой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чната ми песен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е м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чезва слава тук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млъкна всеки звук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ямам никой друг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е мой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53280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Ако съм слаб и стар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е м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кръст и пред олта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е м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грижи се за м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ави ме преблаж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ки час, всеки ден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е м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53352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ремето ми теч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е м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рок бърз' ще изтеч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е м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 в последний ч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 вземе моят Сп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ея и тогаз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е мой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4:56:35Z</dcterms:modified>
  <cp:revision>101</cp:revision>
  <dc:subject/>
  <dc:title>Slide 1</dc:title>
</cp:coreProperties>
</file>